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1E9F-3E25-4606-8EB1-08D4442BC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we would go through how to use this tool step by step.  Teachers would get the step by step directions and we will go through how to use the tool one step at a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F2852-7BA2-4306-BD77-568D2571F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D1A97-9D09-494C-85FD-74D23CA0D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383A8-2E56-4D65-9351-BACDAC522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CD672-6ADC-431E-B4B0-4073499A5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36A005-9608-472C-A82D-595479AEC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45623-67EF-4333-A54F-BE611469C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06543-D852-494E-A21D-304589C9A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24D13-2D6F-448A-8516-655DD2B36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5B2CA-4D34-4A0B-ABC9-B39832810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AB480-CCF2-49E1-93E2-6772D1857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8C24F-8542-41A8-B2E9-1FFF65B7B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30457-BF0C-467D-8FBB-284DA7963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15AB7-1231-4139-96D7-E236A4C98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47DAD-987A-40FA-BD15-FC583C416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74FCE-C62F-46C7-9EEB-610496B32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6F6B6-AFCA-4F0D-A037-A08FD1E64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330CB-8871-4551-B122-DE6711501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87D69-5389-4B0C-81BB-D0F572AA0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D39BC-48B6-4C0A-88A1-506E24E15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0352C-3A1F-438C-A319-2750C06F7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CFAFB-413B-4355-A9E1-DF6E28C35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0C85B-6D73-48C8-AC3B-10A827000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C3D80-587E-4584-B924-3949EA608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4D7A6-E652-4B3C-970B-D4978967B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1646-0EA9-48D7-AAF0-9CE8F52A6F5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CF00-08B8-4840-8D53-025BD6851E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Blabberize and Xtranormal to Differentiate for Gifted Students</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 good about them?</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students to create movies without technical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love creating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use them to present a variety of different information in many different 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ey good for Gifted Students?</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ly allows students to be crea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manipulate characters and add small detai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present information such as book reports, author study, etc, in movie 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create movie “role play” to express their feel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I need to use this tool?</a:t>
            </a: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this t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bberiz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that allow students to make any picture t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add their own voice to make the picture tal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 good about them?</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ly Differenti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do them on their 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way to present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enjoy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ey good for Gifted Students?</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lows gifted students to flex their creative musc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ly allows gifted students to partake in enrichment or special proj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aught how to use the tool, students can work independently on the too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ted students often enjoy working with techn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I need to use this tool?</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phone or access to a ph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this t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tranorm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tranormal is a free website that allows you to create simple movies.  All you need to do to create the movies is simply select your characters and scene and type what you want them to say.  The tool will do the 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15:13:07Z</dcterms:created>
  <dc:creator>Hempfield High School</dc:creator>
  <dc:description/>
  <dc:language>en-US</dc:language>
  <cp:lastModifiedBy>Hempfield High School</cp:lastModifiedBy>
  <cp:lastPrinted>1904-01-01T00:00:00Z</cp:lastPrinted>
  <dcterms:modified xsi:type="dcterms:W3CDTF">2010-11-27T15:55:11Z</dcterms:modified>
  <cp:revision>5</cp:revision>
  <dc:subject/>
  <dc:title>Using Blabberize and Xtranormal to Differentiate for Gifted Students</dc:title>
</cp:coreProperties>
</file>