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F8FB1-06A1-4063-86E2-BEECFA330F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ere, we would go through how to use this tool step by step.  Teachers would get the step by step directions and we will go through how to use the tool one step at a ti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4D28C5-32D0-48BE-8442-C4706C6BC9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E78B0-7E8E-4838-8527-071A2E128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B40CB1-1D62-4372-8EE6-FD1ABC7C96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5A9651-C75B-4F3D-8127-B090F20704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DBB799-73ED-4D7B-B5EB-06ABBE1489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B47CAB-FA0D-4C0B-AD72-3CD894448C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7E24D4-67B5-44E0-913B-3794DEADCA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655C79-D1BD-48FD-9CC5-414011D917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99D0C5-2A75-45F3-87F9-8F72F78720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EDBD4E-895D-4E3E-ADE0-3116BE2F0A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00AC7-59B6-4563-9CFF-6D35C20E7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EA516-814D-478E-9077-4CC344BA9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B1330-93B5-49F3-8EA0-F46D724F2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6DC21-7BC4-4469-9A50-2068C55AAD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35AAC3-E9EB-4886-8DC9-6F3AAE9CF1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7B2958-B1AA-4CC1-8641-D2AF0765FE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2C648B-1062-4919-8072-D4DC81F296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CD12A-145C-42BD-BDD1-FE299C8AC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6C04F-B860-42DC-8617-2AF647602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023C8-2B32-44DB-A358-A68516120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EF45B-4E50-4509-B4E5-51247EE53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8E7B6-DDDA-4612-B5C8-94854630C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699CD-DBEC-4011-BD84-CEA5E8BDA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B4DD2-7566-48FA-B0E2-0C15DE6489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FE4E6-2D65-41BA-A0BA-955B80C1AA6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10DFE-4FBA-42FC-BDFA-2BF5B667FD3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Blabberize and Xtranormal to Differentiate for Gifted Students</a:t>
            </a:r>
            <a:endParaRPr b="0" lang="en-US" sz="4400" spc="-1" strike="noStrike">
              <a:solidFill>
                <a:srgbClr val="000000"/>
              </a:solidFill>
              <a:latin typeface="Arial"/>
            </a:endParaRPr>
          </a:p>
        </p:txBody>
      </p:sp>
      <p:sp>
        <p:nvSpPr>
          <p:cNvPr id="90" name="PlaceHolder 2"/>
          <p:cNvSpPr>
            <a:spLocks noGrp="1"/>
          </p:cNvSpPr>
          <p:nvPr>
            <p:ph type="subTitle"/>
          </p:nvPr>
        </p:nvSpPr>
        <p:spPr>
          <a:xfrm>
            <a:off x="1371600" y="42667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so good about them?</a:t>
            </a:r>
            <a:endParaRPr b="0" lang="en-US" sz="4400" spc="-1" strike="noStrike">
              <a:solidFill>
                <a:srgbClr val="00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s students to create movies without technical ski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love creating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use them to present a variety of different information in many different w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are they good for Gifted Students?</a:t>
            </a:r>
            <a:endParaRPr b="0" lang="en-US" sz="4400" spc="-1" strike="noStrike">
              <a:solidFill>
                <a:srgbClr val="000000"/>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ily allows students to be creativ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manipulate characters and add small detai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present information such as book reports, author study, etc, in movie for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create movie “role play” to express their feeli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I need to use this tool?</a:t>
            </a:r>
            <a:endParaRPr b="0" lang="en-US" sz="4400" spc="-1" strike="noStrike">
              <a:solidFill>
                <a:srgbClr val="000000"/>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Accou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use this too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abberiz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it?</a:t>
            </a:r>
            <a:endParaRPr b="0" lang="en-US"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ool that allow students to make any picture tal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add their own voice to make the picture tal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so good about them?</a:t>
            </a:r>
            <a:endParaRPr b="0" lang="en-US" sz="4400" spc="-1" strike="noStrike">
              <a:solidFill>
                <a:srgbClr val="000000"/>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ily Differenti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do them on their ow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way to present inform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enjoy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are they good for Gifted Students?</a:t>
            </a:r>
            <a:endParaRPr b="0" lang="en-US" sz="4400" spc="-1" strike="noStrike">
              <a:solidFill>
                <a:srgbClr val="00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lows gifted students to flex their creative musc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ily allows gifted students to partake in enrichment or special projec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taught how to use the tool, students can work independently on the tool.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fted students often enjoy working with techn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I need to use this tool?</a:t>
            </a:r>
            <a:endParaRPr b="0" lang="en-US" sz="4400" spc="-1" strike="noStrike">
              <a:solidFill>
                <a:srgbClr val="00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phone or access to a ph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Accou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use this too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tranorm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it?</a:t>
            </a:r>
            <a:endParaRPr b="0" lang="en-US" sz="4400" spc="-1" strike="noStrike">
              <a:solidFill>
                <a:srgbClr val="000000"/>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tranormal is a free website that allows you to create simple movies.  All you need to do to create the movies is simply select your characters and scene and type what you want them to say.  The tool will do the r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7T15:13:07Z</dcterms:created>
  <dc:creator>Hempfield High School</dc:creator>
  <dc:description/>
  <dc:language>en-US</dc:language>
  <cp:lastModifiedBy>Hempfield High School</cp:lastModifiedBy>
  <cp:lastPrinted>1904-01-01T00:00:00Z</cp:lastPrinted>
  <dcterms:modified xsi:type="dcterms:W3CDTF">2010-11-27T15:55:11Z</dcterms:modified>
  <cp:revision>5</cp:revision>
  <dc:subject/>
  <dc:title>Using Blabberize and Xtranormal to Differentiate for Gifted Students</dc:title>
</cp:coreProperties>
</file>