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D2F7A-A217-409C-9B17-ABD91E18E6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ere, we would go through how to use this tool step by step.  Teachers would get the step by step directions and we will go through how to use the tool one step at a tim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D3BF02-9E1E-43F0-A548-9FE0FEBCB4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DBDE44-022D-49F7-83CA-0A34971FDE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BE78D4-F6FB-44D1-B1B5-6C0CA94E85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DCF651-E22E-4CA5-8125-7196172A50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AE620B-9B9B-41A7-A46C-41415C18C3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1C325C-2BBE-4685-BE0F-8E5BFB763B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E94032-0B29-4CE1-A00F-53174B4F31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751BA6-DD35-462E-BD3E-B8E6DD8C9D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F9EBD7-B52B-44F5-A18E-851A17E6C7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72E258-23FB-423E-93D5-EDB22BA021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B84930-62A3-404B-8730-81FDAE3836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20117D-18B9-4AAE-AF32-A9ECF063F8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CCB766-6228-42AE-A70E-8E40E4399F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D173BC-D5D3-445C-A0BC-3CF0B6B8C1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EC9D2A-6F19-47FF-A6D9-C207AB4B83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097192-222C-43A8-9642-667CFC214A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144731-D23B-4CDC-A265-65B2201BDB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E7AFE6-F3A6-4864-85BE-A11A9DE013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9C75E1-8053-4BD6-A4B4-E9A034CA0F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74B641-7E89-4AA5-8FF3-0DE392DDA1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ADE055-50B7-46E3-BECB-E30D186CA8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6D04F-1F5C-4FD8-A7CB-C096D8207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50678-9E2B-4C9D-898F-B0B75FD5EF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B7780-DC15-4B90-AD2C-7D6D5E580B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D62A3-00A6-4E17-A2F7-C622AADB1EF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50BF8-3BD9-478B-9DB2-1F24E470D1F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Blabberize and Xtranormal to Differentiate for Gifted Students</a:t>
            </a:r>
            <a:endParaRPr b="0" lang="en-US" sz="4400" spc="-1" strike="noStrike">
              <a:solidFill>
                <a:srgbClr val="000000"/>
              </a:solidFill>
              <a:latin typeface="Arial"/>
            </a:endParaRPr>
          </a:p>
        </p:txBody>
      </p:sp>
      <p:sp>
        <p:nvSpPr>
          <p:cNvPr id="90" name="PlaceHolder 2"/>
          <p:cNvSpPr>
            <a:spLocks noGrp="1"/>
          </p:cNvSpPr>
          <p:nvPr>
            <p:ph type="subTitle"/>
          </p:nvPr>
        </p:nvSpPr>
        <p:spPr>
          <a:xfrm>
            <a:off x="1371600" y="42667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so good about them?</a:t>
            </a:r>
            <a:endParaRPr b="0" lang="en-US" sz="4400" spc="-1" strike="noStrike">
              <a:solidFill>
                <a:srgbClr val="000000"/>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ws students to create movies without technical ski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love creating th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can use them to present a variety of different information in many different wa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are they good for Gifted Students?</a:t>
            </a:r>
            <a:endParaRPr b="0" lang="en-US" sz="4400" spc="-1" strike="noStrike">
              <a:solidFill>
                <a:srgbClr val="000000"/>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sily allows students to be creativ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can manipulate characters and add small detail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can present information such as book reports, author study, etc, in movie for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can create movie “role play” to express their feeling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I need to use this tool?</a:t>
            </a:r>
            <a:endParaRPr b="0" lang="en-US" sz="4400" spc="-1" strike="noStrike">
              <a:solidFill>
                <a:srgbClr val="000000"/>
              </a:solidFill>
              <a:latin typeface="Arial"/>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Accou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use this too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abberiz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it?</a:t>
            </a:r>
            <a:endParaRPr b="0" lang="en-US" sz="4400" spc="-1" strike="noStrike">
              <a:solidFill>
                <a:srgbClr val="000000"/>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ool that allow students to make any picture tal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can add their own voice to make the picture talk.</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so good about them?</a:t>
            </a:r>
            <a:endParaRPr b="0" lang="en-US" sz="4400" spc="-1" strike="noStrike">
              <a:solidFill>
                <a:srgbClr val="000000"/>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sily Differenti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can do them on their ow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 way to present inform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enjoy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are they good for Gifted Students?</a:t>
            </a:r>
            <a:endParaRPr b="0" lang="en-US" sz="4400" spc="-1" strike="noStrike">
              <a:solidFill>
                <a:srgbClr val="000000"/>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allows gifted students to flex their creative musc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ily allows gifted students to partake in enrichment or special projec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ce taught how to use the tool, students can work independently on the tool.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fted students often enjoy working with technolo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I need to use this tool?</a:t>
            </a:r>
            <a:endParaRPr b="0" lang="en-US" sz="4400" spc="-1" strike="noStrike">
              <a:solidFill>
                <a:srgbClr val="000000"/>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crophone or access to a ph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Accou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use this too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Xtranorm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it?</a:t>
            </a:r>
            <a:endParaRPr b="0" lang="en-US" sz="4400" spc="-1" strike="noStrike">
              <a:solidFill>
                <a:srgbClr val="000000"/>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tranormal is a free website that allows you to create simple movies.  All you need to do to create the movies is simply select your characters and scene and type what you want them to say.  The tool will do the re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7T15:13:07Z</dcterms:created>
  <dc:creator>Hempfield High School</dc:creator>
  <dc:description/>
  <dc:language>en-US</dc:language>
  <cp:lastModifiedBy>Hempfield High School</cp:lastModifiedBy>
  <cp:lastPrinted>1904-01-01T00:00:00Z</cp:lastPrinted>
  <dcterms:modified xsi:type="dcterms:W3CDTF">2010-11-27T15:55:11Z</dcterms:modified>
  <cp:revision>5</cp:revision>
  <dc:subject/>
  <dc:title>Using Blabberize and Xtranormal to Differentiate for Gifted Students</dc:title>
</cp:coreProperties>
</file>