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CE51-26F6-4C88-A719-4663C2280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we would go through how to use this tool step by step.  Teachers would get the step by step directions and we will go through how to use the tool one step at a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5C060-3DEE-4962-9395-C1B5DBB89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8C52-CD04-43BF-98B3-A161960B9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95813-EB00-4CBF-B25C-F9AC70331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1C834-FD6C-49CC-9CBD-72E35160D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9B55D-598B-418B-836A-972A7C58A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92AA4-EBAE-464B-A60E-FFD8AD2B9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12949-4B4D-4F39-900C-6647A0F1C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257AD-56DF-428F-82F3-629A3BE00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AD501-D44E-4A93-97B5-4976CC1D0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351A5-DC9D-4F7F-95F8-8344C729E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3D02E-9EF3-46CD-ADDA-128C38A25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CEAC-A7BC-4CB8-B96C-EB582A33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F442C-28E8-4202-8494-8453448ED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1824D-A466-4E6A-BB12-5946014CD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9C1E6-EF45-4B8A-ABA6-19258D714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AB1FE-1298-41E9-899C-0CB0D220B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09881-22AC-4320-A812-B580583A3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1B790-014C-4DDB-A062-DE1A7515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8483B-1D3A-4147-874A-96E0B0023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7B41-47CD-4E74-AE9F-E0EF41E9A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B300-C143-4A0B-ADBB-CCAD3115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F83B-EF84-4874-A3FB-2C60F8F9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49568-8764-47A9-BA48-B2251876C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C8B4-6DF2-4D11-A7FE-DE4F5DFC3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8DCE-7E81-4BFB-846A-6FCEBC20BC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94D1-07A8-44A1-A577-271D7CA107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labberize and Xtranormal to Differentiate for Gifted Student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create movies without techn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love creat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use them to present a variety of different information in many different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allows students to be cre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manipulate characters and add small detai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present information such as book reports, author study, etc, in movi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movie “role play” to express their fee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bberi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hat allow students to make any picture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add their own voice to make the picture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 good about them?</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Differenti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o them on their 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way to presen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enjo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good for Gifted Student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gifted students to flex their creative mus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llows gifted students to partake in enrichment or special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aught how to use the tool, students can work independently on the t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 students often enjoy working with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I need to use this tool?</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phone or access to a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t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tranor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tranormal is a free website that allows you to create simple movies.  All you need to do to create the movies is simply select your characters and scene and type what you want them to say.  The tool will do the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5:13:07Z</dcterms:created>
  <dc:creator>Hempfield High School</dc:creator>
  <dc:description/>
  <dc:language>en-US</dc:language>
  <cp:lastModifiedBy>Hempfield High School</cp:lastModifiedBy>
  <cp:lastPrinted>1904-01-01T00:00:00Z</cp:lastPrinted>
  <dcterms:modified xsi:type="dcterms:W3CDTF">2010-11-27T15:55:11Z</dcterms:modified>
  <cp:revision>5</cp:revision>
  <dc:subject/>
  <dc:title>Using Blabberize and Xtranormal to Differentiate for Gifted Students</dc:title>
</cp:coreProperties>
</file>