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92D-7A2B-478F-9AE6-CAE765A4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521-FF82-49DE-9652-7C3D653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73B-527A-48F1-8E2C-CA3FFF6D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D56-621A-4547-A883-9F82F6E0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E21A-9A7F-4489-8327-DB557E47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15AC-2C73-4B79-8FBF-36DC8A4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9A16-0071-4375-947F-11066C42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CD3C-789B-44C5-BEC0-917E4880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335C-CF43-4DF6-B719-DFE3BAEC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F65E-907E-4968-828C-1273AF71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D9A-CC90-4A05-B5C3-1763266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68F-1369-4E70-9A08-43AB59F7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D2C8-0427-4EEC-82F2-AA3102B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2799-ECDE-426C-B8B4-0106B56A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084D-A15A-47EF-B992-2F7DA155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8E9C-EE81-431F-B30A-5B06F76E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6171-5396-4746-9A31-C961B7F1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5D5-9BD4-433C-9DCC-ACD93AAA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A93-8F5D-4889-A12E-2806E4A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539-88AD-4C20-90FB-961CFE0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FA9-E086-4F0A-B138-FB36E69B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0DC-CC15-4758-88C5-FE156AB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825-D7FE-464A-A691-519B8C3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C68-7ED6-4A5F-838E-F3FA255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86C1-0E69-4401-AA71-4435DD3E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7DA-EAB8-4005-9AD8-4A26D9EED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21:51Z</dcterms:created>
  <dc:creator>Hempfield High School</dc:creator>
  <dc:description/>
  <dc:language>en-US</dc:language>
  <cp:lastModifiedBy>Hempfield High School</cp:lastModifiedBy>
  <cp:lastPrinted>1904-01-01T00:00:00Z</cp:lastPrinted>
  <dcterms:modified xsi:type="dcterms:W3CDTF">2009-11-30T18:22:32Z</dcterms:modified>
  <cp:revision>1</cp:revision>
  <dc:subject/>
  <dc:title>PowerPoint Presentation</dc:title>
</cp:coreProperties>
</file>