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88A-7646-418C-BC01-647DB4D7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E0C-A7D9-4ADE-BFA1-F6A4422A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3E9-4E13-4D88-8938-727995B2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A37-454E-493B-A560-1D091985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8DB5-0B88-4548-B9AF-7B809998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D69B-EDF4-481C-AD4F-86BC4F7D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E425-69BD-4687-822F-DD56C194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7069-B926-4FD4-9063-3F2D4D71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7086-203E-4CD6-818D-939AD684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3077-4A9B-4DD7-9971-621D9454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F521-95EA-4101-9ED7-650E8C36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AD5-1549-43B2-8CA4-B4A9EDC7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3867-2EB3-4FAF-B170-8436690D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DC41-1B68-4357-A74C-D0CE066D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42FF-3FDF-4D26-9B68-AB2CC2CD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7B4C-BE0C-4040-B129-64319BC0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1815-7217-46BE-A416-ED7715CB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338-9C3D-4AC8-AED5-38FFC72A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3F69-93E6-42C9-9374-67B31D8D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D72-4BD0-4823-A0AC-82485DB7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993-3205-4E7C-87ED-051046FE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4AA-7258-4C9E-8D2B-9307BD69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2BF-3554-43A9-94AD-A16D140E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803-733A-4A3B-ACE2-7E9FD9A2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8FB7-5E69-4B7C-B015-5D5A3BB5B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AB02-62DA-4E68-A89F-0D0491FF8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21:51Z</dcterms:created>
  <dc:creator>Hempfield High School</dc:creator>
  <dc:description/>
  <dc:language>en-US</dc:language>
  <cp:lastModifiedBy>Hempfield High School</cp:lastModifiedBy>
  <cp:lastPrinted>1904-01-01T00:00:00Z</cp:lastPrinted>
  <dcterms:modified xsi:type="dcterms:W3CDTF">2009-11-30T18:22:32Z</dcterms:modified>
  <cp:revision>1</cp:revision>
  <dc:subject/>
  <dc:title>PowerPoint Presentation</dc:title>
</cp:coreProperties>
</file>