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733-FC38-4177-B5AE-2DFD104D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560-EF30-4BF1-B35C-4162DFE8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59B-C642-4301-A778-7E5B2AC2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93E-4719-4E1E-AB22-999EECCE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248C-803E-423D-9C87-A268C336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F8A2-B8CC-42FF-8191-515164B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C9D9-CED3-4E76-8100-940888C5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A7E7-12B4-4DA4-900D-D3F42A64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99A8-B5A5-424F-AF64-BA187BE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CBBE-6028-48D9-A85E-F7F7EB99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CEA2-0634-4751-AE9B-016B104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90C-2D21-41A7-952B-ABE0FCC4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D646-0CBC-4453-AB9F-BCDA1D3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1026-4325-4EC5-B5FE-7C5E2AE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6EE-7AF0-47D4-9C35-298CAA91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5BD1-2665-4E38-8B54-7E6BFEB1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D007-91BF-4AAE-821A-87BE6D22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1A9-299C-4DB8-8594-321D5853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2AE-17CD-4597-B2DE-C628E8B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B0B-8566-472F-ACF1-86A11E0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D68-869D-4B06-A4AD-50EB5D67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C06-6BAB-4B35-813B-51CDA93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36E-7BF3-4FFA-92CB-50A7729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F98-3627-4C6E-B8B2-B865ACF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46C6-BB7D-47E3-BE7C-DB90EE4C5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10E6-E348-4A27-8A82-34E2DC93D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21:51Z</dcterms:created>
  <dc:creator>Hempfield High School</dc:creator>
  <dc:description/>
  <dc:language>en-US</dc:language>
  <cp:lastModifiedBy>Hempfield High School</cp:lastModifiedBy>
  <cp:lastPrinted>1904-01-01T00:00:00Z</cp:lastPrinted>
  <dcterms:modified xsi:type="dcterms:W3CDTF">2009-11-30T18:22:32Z</dcterms:modified>
  <cp:revision>1</cp:revision>
  <dc:subject/>
  <dc:title>PowerPoint Presentation</dc:title>
</cp:coreProperties>
</file>