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805-9B4A-42B5-8B53-5C6A10A9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52F-C670-481A-9CC8-9E6750EA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534-0FCC-4AEE-8A86-597F2FB6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427-0AF6-45B7-8D5E-17307558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0269-AE3E-46C6-AE4F-F31CC585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F575-8FD2-40C7-912F-01182E2B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5944-6587-49B2-A77C-50A5CEA7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54DF-0FC9-4D54-88A1-A1EF9753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305B-6CA5-484D-A5D9-CDF65C30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053E-66AC-4E2E-A4BF-7F2494F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B667-4E6F-46A4-ADAA-5E2DAD53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43A-17A2-4FFD-AA31-A6C1DCA4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EE55-2929-4E61-B5C4-AA0A3BDB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4071-5C1C-4005-89F0-13112EFD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6AF-25E0-42DB-8BC5-C7BEF5F0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2C00-9BF0-4FD1-8A43-E85133F3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7D0D-F3C5-4316-8A75-F2E3798E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F19-04D4-4D6D-B4E3-33484A16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F65-3527-40F2-8955-C0BBB62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712-9422-4DB2-B0AA-ADD8156F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541-3AD5-4B8E-AD06-27C68D7E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297-F136-418F-964A-468EBEFA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9F9-3ADF-479E-AFDA-4B832089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D9D-52BE-42F6-8368-5F1CD9F1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4BC-40A5-43D6-AEA1-A17F10B7A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C53F-AFE2-4ED7-A952-FC979614F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21:51Z</dcterms:created>
  <dc:creator>Hempfield High School</dc:creator>
  <dc:description/>
  <dc:language>en-US</dc:language>
  <cp:lastModifiedBy>Hempfield High School</cp:lastModifiedBy>
  <cp:lastPrinted>1904-01-01T00:00:00Z</cp:lastPrinted>
  <dcterms:modified xsi:type="dcterms:W3CDTF">2009-11-30T18:22:32Z</dcterms:modified>
  <cp:revision>1</cp:revision>
  <dc:subject/>
  <dc:title>PowerPoint Presentation</dc:title>
</cp:coreProperties>
</file>